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B77E4-6879-442D-991B-FE2229B3364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omic Stru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omic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charges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charges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re positively charged particles found in the atomic nucleus. Protons were discovered by Ernest Rutherf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done in the late 1960's and early 1970's showed that protons are made from other particles called quarks. Protons are made from two 'up' quarks and one 'down'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s are positively charged particles found in the atomic nucleus. Protons were discovered by Ernest Rutherfo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done in the late 1960's and early 1970's showed that protons are made from other particles called quarks. Protons are made from two 'up' quarks and one 'down'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Neu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re uncharged particles found in the atomic nucleus. Neutrons were discovered by James Chadwick in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done in the late 1960's and early 1970's showed that neutrons are made from other particles called quarks. Neutrons are made from one 'up' quark and two 'down' 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Neu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s are uncharged particles found in the atomic nucleus. Neutrons were discovered by James Chadwick in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done in the late 1960's and early 1970's showed that neutrons are made from other particles called quarks. Neutrons are made from one 'up' quark and two 'down' qu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re negatively charged particles that surround the atom's nucleus. Electrons were discovered by J. J. Thomson in 189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determine properties of the atom. Chemical reactions involve sharing or exchanging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egatively charged particles that surround the atom's nucleus. Electrons were discovered by J. J. Thomson in 1897.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determine properties of the atom. Chemical reactions involve sharing or exchanging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is the central part of an atom. It is composed of protons and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contains most of an atom's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discovered by Ernest Rutherford in 19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us is the central part of an atom. It is composed of protons and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us contains most of an atom's m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by Ernest Rutherford in 19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3 major part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3 major parts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to be one of the basic building blocks of matter. Quarks were first discovered in experiments done in the late 1960's and early 197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families of quarks are known to exist. Each family contains two quarks. The first family consists of Up and Down quarks, the quarks that join together to form protons and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family consists of Strange and Charm quarks and only exist at high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family consists of Top and Bottom quarks and only exist at very high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to be one of the basic building blocks of matter. Quarks were first discovered in experiments done in the late 1960's and early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families of quarks are known to exist. Each family contains two quarks. The first family consists of Up and Down quarks, the quarks that join together to form protons and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amily consists of Strange and Charm quarks and only exist at high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family consists of Top and Bottom quarks and only exist at very high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Isot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at have the same number of protons but different numbers of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soto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hat have the same number of protons but different numbers of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scribe Isot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ttp://education.jlab.org/glossary/isotope.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ribe Isoto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education.jlab.org/glossary/isotope.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of the atom pictures the electrons moving around the nucleus in a region called an electron clou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click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regentsprep.org/Regents/physics/phys05/catomodel/cloud.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of the atom pictures the electrons moving around the nucleus in a region called an electron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click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regentsprep.org/Regents/physics/phys05/catomodel/cloud.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br>
              <a:rPr sz="1200"/>
            </a:br>
            <a:r>
              <a:rPr b="0" lang="en-US" sz="1200" spc="-1" strike="noStrike">
                <a:solidFill>
                  <a:srgbClr val="000000"/>
                </a:solidFill>
                <a:latin typeface="Calibri"/>
              </a:rPr>
              <a:t>Diagram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br>
              <a:rPr sz="1200"/>
            </a:br>
            <a:r>
              <a:rPr b="0" lang="en-US" sz="1200" spc="-1" strike="noStrike">
                <a:solidFill>
                  <a:srgbClr val="000000"/>
                </a:solidFill>
                <a:latin typeface="Arial"/>
              </a:rPr>
              <a:t>Diagram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br>
              <a:rPr sz="1200"/>
            </a:br>
            <a:r>
              <a:rPr b="0" lang="en-US" sz="1200" spc="-1" strike="noStrike">
                <a:solidFill>
                  <a:srgbClr val="000000"/>
                </a:solidFill>
                <a:latin typeface="Calibri"/>
              </a:rPr>
              <a:t>Diagram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br>
              <a:rPr sz="1200"/>
            </a:br>
            <a:r>
              <a:rPr b="0" lang="en-US" sz="1200" spc="-1" strike="noStrike">
                <a:solidFill>
                  <a:srgbClr val="000000"/>
                </a:solidFill>
                <a:latin typeface="Arial"/>
              </a:rPr>
              <a:t>Diagram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3 major part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3 major parts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skom.co.za/nuclear_energy/fuel/fuel.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skom.co.za/nuclear_energy/fuel/fuel.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ore diagrams at:  http://www.bmb.psu.edu/courses/bisci004a/chem/basechem.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more diagrams at:  http://www.bmb.psu.edu/courses/bisci004a/chem/basechem.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mb.psu.edu/courses/bisci004a/chem/atoms.jp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mb.psu.edu/courses/bisci004a/chem/atoms.jp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charges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charges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3BA1D-329B-4D2E-B15D-2DC89264D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1988F-79CA-4018-BF28-1BB6CD2B1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6103E-87EC-4FB4-B80A-C7FF313AD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3E4A3-9C0B-4383-8D4E-E0A0A9B82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2DC57-C254-4507-8563-7854ACB00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3F722-36DF-4D70-BC78-90B497856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F9EE5-6FB5-4FC2-9D54-A383FD0B5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456E6-8A09-45A4-BDF7-295DD8320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071C6-C9F0-4C62-8AD3-9E499BB92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11D98-4202-4288-88D0-AB12C0380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D6751-4B0A-48D0-8973-0841435CB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2F178-D5A5-4D65-9E3F-8256638A0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99"/>
            </a:gs>
            <a:gs pos="100000">
              <a:srgbClr val="ff99c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4042-5947-4872-893C-12E8052C94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omic Structure</a:t>
            </a:r>
            <a:endParaRPr b="0" lang="en-US" sz="4400" spc="-1" strike="noStrike">
              <a:solidFill>
                <a:srgbClr val="000000"/>
              </a:solidFill>
              <a:latin typeface="Arial"/>
            </a:endParaRPr>
          </a:p>
        </p:txBody>
      </p:sp>
      <p:pic>
        <p:nvPicPr>
          <p:cNvPr id="49" name="Picture 6" descr="joos1qyu[1]"/>
          <p:cNvPicPr/>
          <p:nvPr/>
        </p:nvPicPr>
        <p:blipFill>
          <a:blip r:embed="rId1"/>
          <a:stretch/>
        </p:blipFill>
        <p:spPr>
          <a:xfrm>
            <a:off x="2743200" y="2286000"/>
            <a:ext cx="3657600" cy="279864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pic>
        <p:nvPicPr>
          <p:cNvPr id="76" name="Picture 3" descr="1"/>
          <p:cNvPicPr/>
          <p:nvPr/>
        </p:nvPicPr>
        <p:blipFill>
          <a:blip r:embed="rId1"/>
          <a:stretch/>
        </p:blipFill>
        <p:spPr>
          <a:xfrm>
            <a:off x="2286000" y="1619280"/>
            <a:ext cx="4572000" cy="448632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s are positively charged particles found in the atomic nucleus. Protons were discovered by Ernest Rutherf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protons are made from other particles called quarks. Protons are made from two 'up' quarks and one 'down' quark.</a:t>
            </a:r>
            <a:endParaRPr b="0" lang="en-US" sz="32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are uncharged particles found in the atomic nucleus. Neutrons were discovered by James Chadwick in 193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neutrons are made from other particles called quarks. Neutrons are made from one 'up' quark and two 'down' quarks.</a:t>
            </a:r>
            <a:endParaRPr b="0" lang="en-US" sz="32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are negatively charged particles that surround the atom's nucleus. Electrons were discovered by J. J. Thomson in 1897.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determine properties of the atom. Chemical reactions involve sharing or exchanging electrons. </a:t>
            </a: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is the central part of an atom. It is composed of protons and neutr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contains most of an atom's 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discovered by Ernest Rutherford in 1911.</a:t>
            </a: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o be one of the basic building blocks of matter. Quarks were first discovered in experiments done in the late 1960's and early 1970'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families of quarks are known to exist. Each family contains two quarks. The first family consists of Up and Down quarks, the quarks that join together to form protons and neutr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family consists of Strange and Charm quarks and only exist at high energ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rd family consists of Top and Bottom quarks and only exist at very high energies. </a:t>
            </a:r>
            <a:endParaRPr b="0" lang="en-US" sz="2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104" name="PlaceHolder 2"/>
          <p:cNvSpPr>
            <a:spLocks noGrp="1"/>
          </p:cNvSpPr>
          <p:nvPr>
            <p:ph/>
          </p:nvPr>
        </p:nvSpPr>
        <p:spPr>
          <a:xfrm>
            <a:off x="533520" y="2286000"/>
            <a:ext cx="8229600" cy="2209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oms that have the same number of protons but different numbers of neutr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4" descr="isotope"/>
          <p:cNvPicPr/>
          <p:nvPr/>
        </p:nvPicPr>
        <p:blipFill>
          <a:blip r:embed="rId1"/>
          <a:stretch/>
        </p:blipFill>
        <p:spPr>
          <a:xfrm>
            <a:off x="1905120" y="2362320"/>
            <a:ext cx="5029200" cy="2760480"/>
          </a:xfrm>
          <a:prstGeom prst="rect">
            <a:avLst/>
          </a:prstGeom>
          <a:ln w="0">
            <a:noFill/>
          </a:ln>
        </p:spPr>
      </p:pic>
      <p:sp>
        <p:nvSpPr>
          <p:cNvPr id="109" name="Text Box 6"/>
          <p:cNvSpPr/>
          <p:nvPr/>
        </p:nvSpPr>
        <p:spPr>
          <a:xfrm>
            <a:off x="304920" y="5867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7"/>
          <p:cNvSpPr/>
          <p:nvPr/>
        </p:nvSpPr>
        <p:spPr>
          <a:xfrm>
            <a:off x="457200" y="563868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ducation.jlab.org/glossary/isotope.html </a:t>
            </a:r>
            <a:endParaRPr b="0" lang="en-US" sz="1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of the atom pictures the electrons moving around the nucleus in a region called an electron clou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2800" spc="-1" strike="noStrike">
              <a:solidFill>
                <a:srgbClr val="000000"/>
              </a:solidFill>
              <a:latin typeface="Arial"/>
            </a:endParaRPr>
          </a:p>
        </p:txBody>
      </p:sp>
      <p:sp>
        <p:nvSpPr>
          <p:cNvPr id="116" name="Text Box 4"/>
          <p:cNvSpPr/>
          <p:nvPr/>
        </p:nvSpPr>
        <p:spPr>
          <a:xfrm>
            <a:off x="838080" y="5029200"/>
            <a:ext cx="7239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
          <p:cNvSpPr/>
          <p:nvPr/>
        </p:nvSpPr>
        <p:spPr>
          <a:xfrm>
            <a:off x="685800" y="5715000"/>
            <a:ext cx="777240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or more information, click here:</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regentsprep.org/Regents/physics/phys05/catomodel/cloud.htm </a:t>
            </a:r>
            <a:endParaRPr b="0" lang="en-US" sz="18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1:</a:t>
            </a:r>
            <a:endParaRPr b="0" lang="en-US" sz="4000" spc="-1" strike="noStrike">
              <a:solidFill>
                <a:srgbClr val="000000"/>
              </a:solidFill>
              <a:latin typeface="Arial"/>
            </a:endParaRPr>
          </a:p>
        </p:txBody>
      </p:sp>
      <p:pic>
        <p:nvPicPr>
          <p:cNvPr id="120" name="Picture 3" descr="2"/>
          <p:cNvPicPr/>
          <p:nvPr/>
        </p:nvPicPr>
        <p:blipFill>
          <a:blip r:embed="rId1"/>
          <a:stretch/>
        </p:blipFill>
        <p:spPr>
          <a:xfrm>
            <a:off x="1295280" y="1295280"/>
            <a:ext cx="6705720" cy="504504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2:</a:t>
            </a:r>
            <a:endParaRPr b="0" lang="en-US" sz="4000" spc="-1" strike="noStrike">
              <a:solidFill>
                <a:srgbClr val="000000"/>
              </a:solidFill>
              <a:latin typeface="Arial"/>
            </a:endParaRPr>
          </a:p>
        </p:txBody>
      </p:sp>
      <p:pic>
        <p:nvPicPr>
          <p:cNvPr id="123" name="Picture 3" descr="cloud"/>
          <p:cNvPicPr/>
          <p:nvPr/>
        </p:nvPicPr>
        <p:blipFill>
          <a:blip r:embed="rId1"/>
          <a:stretch/>
        </p:blipFill>
        <p:spPr>
          <a:xfrm>
            <a:off x="2286000" y="1523880"/>
            <a:ext cx="4759200" cy="479268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
        <p:nvSpPr>
          <p:cNvPr id="54" name="PlaceHolder 2"/>
          <p:cNvSpPr>
            <a:spLocks noGrp="1"/>
          </p:cNvSpPr>
          <p:nvPr>
            <p:ph/>
          </p:nvPr>
        </p:nvSpPr>
        <p:spPr>
          <a:xfrm>
            <a:off x="914040" y="3200400"/>
            <a:ext cx="7010280" cy="2362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a:t>
            </a:r>
            <a:endParaRPr b="0" lang="en-US" sz="32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59" name="Picture 4" descr="Atom"/>
          <p:cNvPicPr/>
          <p:nvPr/>
        </p:nvPicPr>
        <p:blipFill>
          <a:blip r:embed="rId1"/>
          <a:stretch/>
        </p:blipFill>
        <p:spPr>
          <a:xfrm>
            <a:off x="2525760" y="1676520"/>
            <a:ext cx="4422600" cy="4724280"/>
          </a:xfrm>
          <a:prstGeom prst="rect">
            <a:avLst/>
          </a:prstGeom>
          <a:ln w="0">
            <a:noFill/>
          </a:ln>
        </p:spPr>
      </p:pic>
      <p:sp>
        <p:nvSpPr>
          <p:cNvPr id="60" name="Text Box 6"/>
          <p:cNvSpPr/>
          <p:nvPr/>
        </p:nvSpPr>
        <p:spPr>
          <a:xfrm>
            <a:off x="457200" y="624852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skom.co.za/nuclear_energy/fuel/fuel.html </a:t>
            </a:r>
            <a:endParaRPr b="0" lang="en-US" sz="18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63" name="Picture 3" descr="1"/>
          <p:cNvPicPr/>
          <p:nvPr/>
        </p:nvPicPr>
        <p:blipFill>
          <a:blip r:embed="rId1"/>
          <a:stretch/>
        </p:blipFill>
        <p:spPr>
          <a:xfrm>
            <a:off x="1219320" y="1219320"/>
            <a:ext cx="6629400" cy="4767120"/>
          </a:xfrm>
          <a:prstGeom prst="rect">
            <a:avLst/>
          </a:prstGeom>
          <a:ln w="0">
            <a:noFill/>
          </a:ln>
        </p:spPr>
      </p:pic>
      <p:sp>
        <p:nvSpPr>
          <p:cNvPr id="64" name="Text Box 5"/>
          <p:cNvSpPr/>
          <p:nvPr/>
        </p:nvSpPr>
        <p:spPr>
          <a:xfrm>
            <a:off x="380880" y="5943600"/>
            <a:ext cx="807732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e more diagrams at:</a:t>
            </a:r>
            <a:r>
              <a:rPr b="0" lang="en-US" sz="1800" spc="-1" strike="noStrike">
                <a:solidFill>
                  <a:srgbClr val="000000"/>
                </a:solidFill>
                <a:latin typeface="Arial"/>
              </a:rPr>
              <a:t>  http://www.bmb.psu.edu/courses/bisci004a/chem/basechem.htm </a:t>
            </a:r>
            <a:endParaRPr b="0" lang="en-US" sz="18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67" name="Picture 3" descr="atoms"/>
          <p:cNvPicPr/>
          <p:nvPr/>
        </p:nvPicPr>
        <p:blipFill>
          <a:blip r:embed="rId1"/>
          <a:stretch/>
        </p:blipFill>
        <p:spPr>
          <a:xfrm>
            <a:off x="1981080" y="1676520"/>
            <a:ext cx="5596200" cy="4109760"/>
          </a:xfrm>
          <a:prstGeom prst="rect">
            <a:avLst/>
          </a:prstGeom>
          <a:ln w="0">
            <a:noFill/>
          </a:ln>
        </p:spPr>
      </p:pic>
      <p:sp>
        <p:nvSpPr>
          <p:cNvPr id="68" name="Text Box 5"/>
          <p:cNvSpPr/>
          <p:nvPr/>
        </p:nvSpPr>
        <p:spPr>
          <a:xfrm>
            <a:off x="380880" y="5943600"/>
            <a:ext cx="815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mb.psu.edu/courses/bisci004a/chem/atoms.jpg </a:t>
            </a:r>
            <a:endParaRPr b="0" lang="en-US" sz="1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a Diagram of an Atom</a:t>
            </a:r>
            <a:endParaRPr b="0" lang="en-US" sz="4400" spc="-1" strike="noStrike">
              <a:solidFill>
                <a:srgbClr val="000000"/>
              </a:solidFill>
              <a:latin typeface="Arial"/>
            </a:endParaRPr>
          </a:p>
        </p:txBody>
      </p:sp>
      <p:pic>
        <p:nvPicPr>
          <p:cNvPr id="73" name="Picture 3" descr="atom"/>
          <p:cNvPicPr/>
          <p:nvPr/>
        </p:nvPicPr>
        <p:blipFill>
          <a:blip r:embed="rId1"/>
          <a:stretch/>
        </p:blipFill>
        <p:spPr>
          <a:xfrm>
            <a:off x="1600200" y="533520"/>
            <a:ext cx="5867280" cy="586728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01:56:34Z</dcterms:created>
  <dc:creator>Mary Poarch</dc:creator>
  <dc:description/>
  <dc:language>en-US</dc:language>
  <cp:lastModifiedBy>LEGION</cp:lastModifiedBy>
  <dcterms:modified xsi:type="dcterms:W3CDTF">2017-01-26T09:14:22Z</dcterms:modified>
  <cp:revision>28</cp:revision>
  <dc:subject/>
  <dc:title>Atomic Structure</dc:title>
</cp:coreProperties>
</file>